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C6DB-3911-4CAF-BED8-4260B444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2800-3AF2-40D4-8647-E9CFDA87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02EE-65D0-45C6-9635-227BF4A6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CBB-D217-4B3F-BB02-24321218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D7FB-1840-4EC3-BF3E-2F940738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43AE-0A5F-46BE-A6A6-BBAA3F14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DB96-9840-4AD3-A3E4-DF0C78BF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D36D-DEBE-49F4-824A-49D7E889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C3A1-F65F-4853-8DCD-1B8FB0DB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3676-964B-4FE5-81C1-B9FE1865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F9E0-88A1-4707-B05D-52BCD256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4197-0939-4DCD-BFE7-0E4971B3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7B19-6F61-41FF-BB35-21CA0B49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EDE3-F249-4C02-A55A-78D19747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DA18-A4D9-4B41-8B54-59BD815A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64E6-D3BD-4D37-8B83-6252C879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9E91-3A7E-4888-A59D-ABC70B9A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D3C0-D8C4-4667-A12C-9EE5569C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AD18-1EDE-4AF6-93F5-D5403B8E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51C9-F07B-4E9E-8DDE-EE908506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308B-01CC-4B29-B933-56BB0752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047C-AC54-41B0-92AF-9D78660F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8E30-B7DD-446D-944F-DF340F53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5E9C-15BB-4A53-846B-4C8BD461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F6E8-3E8E-432B-8631-3B468ECF5CA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DAAC-E630-4AE3-9BB7-8D0A875636F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tmp\nam\nam-sepa.bat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Verdana"/>
              </a:rPr>
              <a:t>NS – Network Simulator </a:t>
            </a:r>
            <a:r>
              <a:rPr b="0" lang="pt-BR" sz="3600" spc="-1" strike="noStrike">
                <a:solidFill>
                  <a:srgbClr val="000000"/>
                </a:solidFill>
                <a:latin typeface="Verdana"/>
              </a:rPr>
              <a:t>Ferramenta de Simulação de Redes de Computador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são Ge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5203080" y="4889520"/>
            <a:ext cx="318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rcos Portn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afael G. B. Araú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ientador:  Prof. Sérgio Br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ns –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aracterísticas e plataform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Desenvolvido em C++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Fornecido em código-f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Uso gratuito e liv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Voltado para Unix (FreeBSD, SunOS, Linux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Window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strutura do 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Núcleo do simulador </a:t>
            </a:r>
            <a:r>
              <a:rPr b="0" lang="pt-B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 C++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Velocid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Implementação de protocol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Interface com usuário </a:t>
            </a:r>
            <a:r>
              <a:rPr b="0" lang="pt-B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 OT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Linguagem script interpreta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Orientada a obje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Flexibilidade e facilidade na mudança de parâmet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08000" y="2060640"/>
            <a:ext cx="5904000" cy="3673440"/>
          </a:xfrm>
          <a:prstGeom prst="roundRect">
            <a:avLst>
              <a:gd name="adj" fmla="val 16667"/>
            </a:avLst>
          </a:prstGeom>
          <a:solidFill>
            <a:srgbClr val="a3b2c1">
              <a:alpha val="8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23000" y="642960"/>
            <a:ext cx="4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03360" y="1808280"/>
            <a:ext cx="2303640" cy="2016000"/>
          </a:xfrm>
          <a:prstGeom prst="rect">
            <a:avLst/>
          </a:prstGeom>
          <a:solidFill>
            <a:srgbClr val="acbac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cl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5640" y="1808280"/>
            <a:ext cx="1584360" cy="936360"/>
          </a:xfrm>
          <a:prstGeom prst="rect">
            <a:avLst/>
          </a:prstGeom>
          <a:solidFill>
            <a:srgbClr val="b6c2c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strutura do 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09600" y="4894200"/>
            <a:ext cx="2173320" cy="406440"/>
            <a:chOff x="309600" y="4894200"/>
            <a:chExt cx="2173320" cy="406440"/>
          </a:xfrm>
        </p:grpSpPr>
        <p:sp>
          <p:nvSpPr>
            <p:cNvPr id="125" name=""/>
            <p:cNvSpPr/>
            <p:nvPr/>
          </p:nvSpPr>
          <p:spPr>
            <a:xfrm>
              <a:off x="1187280" y="4941720"/>
              <a:ext cx="1295640" cy="358920"/>
            </a:xfrm>
            <a:custGeom>
              <a:avLst/>
              <a:gdLst>
                <a:gd name="textAreaLeft" fmla="*/ 202320 w 1295640"/>
                <a:gd name="textAreaRight" fmla="*/ 1134000 w 1295640"/>
                <a:gd name="textAreaTop" fmla="*/ 89640 h 358920"/>
                <a:gd name="textAreaBottom" fmla="*/ 269280 h 3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9600" y="4894200"/>
              <a:ext cx="79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Verdana"/>
                </a:rPr>
                <a:t>scri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50920" y="1808280"/>
            <a:ext cx="1079280" cy="504720"/>
          </a:xfrm>
          <a:prstGeom prst="rect">
            <a:avLst/>
          </a:prstGeom>
          <a:solidFill>
            <a:srgbClr val="c4ced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1808280"/>
            <a:ext cx="2303280" cy="1008000"/>
          </a:xfrm>
          <a:prstGeom prst="rect">
            <a:avLst/>
          </a:prstGeom>
          <a:solidFill>
            <a:srgbClr val="8a9db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calonador de Ev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1080" y="3933720"/>
            <a:ext cx="2303280" cy="2016360"/>
          </a:xfrm>
          <a:prstGeom prst="rect">
            <a:avLst/>
          </a:prstGeom>
          <a:solidFill>
            <a:srgbClr val="8a9db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es de R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23760" y="5950080"/>
            <a:ext cx="7423200" cy="703800"/>
          </a:xfrm>
          <a:prstGeom prst="rect">
            <a:avLst/>
          </a:prstGeom>
          <a:gradFill rotWithShape="0">
            <a:gsLst>
              <a:gs pos="0">
                <a:srgbClr val="bdc8d3">
                  <a:alpha val="90196"/>
                </a:srgbClr>
              </a:gs>
              <a:gs pos="100000">
                <a:srgbClr val="d8de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pretador de OTcl com bibliotecas de simulação para redes de comput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42725E-006 C -0.0007 0.0336 -0.00139 0.06742 1.66667E-006 0.0943 C 0.00139 0.12118 0.00642 0.13786 0.00798 0.16196 C 0.00955 0.18605 0.00382 0.20992 0.00937 0.23842 C 0.01493 0.26692 0.0243 0.30306 0.04132 0.33272 C 0.05833 0.36237 0.07812 0.39759 0.11198 0.41636 C 0.14583 0.43513 0.21667 0.43883 0.24427 0.44486 E">
                                      <p:cBhvr>
                                        <p:cTn id="102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08526E-006 C 0.01511 0.0387 0.03021 0.07739 0.04931 0.12095 C 0.0684 0.16451 0.09983 0.21224 0.11476 0.26159 C 0.12969 0.31094 0.13889 0.37048 0.13872 0.41636 C 0.13854 0.46224 0.13386 0.50765 0.11337 0.53731 C 0.09288 0.56696 0.05781 0.58619 0.01597 0.5943 C -0.02587 0.60241 -0.10399 0.59755 -0.13733 0.5855 C -0.17066 0.57345 -0.17934 0.55515 -0.18403 0.52132 C -0.18871 0.48749 -0.16892 0.41173 -0.16493 0.383 E">
                                      <p:cBhvr>
                                        <p:cTn id="10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26969E-006 C 0.06944 0.00371 0.13889 0.00764 0.19739 0.01066 C 0.2559 0.01367 0.29514 0.00579 0.35069 0.01784 C 0.40521 0.02989 0.49653 0.05607 0.53073 0.08364 C 0.56493 0.11121 0.56354 0.155 0.55607 0.18327 C 0.54861 0.21154 0.5276 0.24119 0.48541 0.25255 C 0.44323 0.2639 0.36562 0.25533 0.30278 0.25093 C 0.23993 0.24652 0.14878 0.23123 0.10833 0.2259 E">
                                      <p:cBhvr>
                                        <p:cTn id="110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05839E-007 C 0.02743 0.01019 0.05486 0.02062 0.0974 0.04611 C 0.13993 0.07159 0.19809 0.12234 0.25469 0.15292 C 0.31111 0.1835 0.38559 0.22544 0.43594 0.22961 C 0.48628 0.23378 0.54062 0.20829 0.55556 0.17794 C 0.57153 0.14759 0.5375 0.09175 0.52917 0.04796 C 0.52066 0.00417 0.51007 -0.05677 0.50503 -0.08434 E">
                                      <p:cBhvr>
                                        <p:cTn id="11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6.0241E-007 C -0.00521 -0.06928 -0.01041 -0.13879 -0.03732 -0.18513 C -0.06423 -0.2317 -0.1151 -0.26529 -0.16128 -0.27943 C -0.20746 -0.29356 -0.27257 -0.28823 -0.31458 -0.27039 C -0.35659 -0.25255 -0.40555 -0.23054 -0.41337 -0.17261 C -0.42118 -0.11469 -0.37205 0.02502 -0.36111 0.07715 E">
                                      <p:cBhvr>
                                        <p:cTn id="11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4.03151E-006 C -0.004 0.01877 -0.00782 0.03776 -0.00261 0.04796 C 0.0026 0.05815 0.01527 0.05908 0.03072 0.06047 C 0.04617 0.06186 0.06371 0.06047 0.09062 0.057 C 0.11753 0.05352 0.15885 0.04518 0.19201 0.03915 C 0.22517 0.03313 0.25364 0.01598 0.2894 0.02131 C 0.32517 0.02664 0.37742 0.04564 0.40659 0.07113 C 0.43576 0.09662 0.45798 0.13299 0.46406 0.17446 C 0.47013 0.21594 0.46579 0.28452 0.4427 0.3202 C 0.41961 0.35588 0.36666 0.39573 0.32534 0.38786 C 0.28402 0.37998 0.23923 0.32599 0.19461 0.27224 E">
                                      <p:cBhvr>
                                        <p:cTn id="126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 Interf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03120" y="2394000"/>
            <a:ext cx="8272440" cy="29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-135000" y="3068640"/>
            <a:ext cx="135000" cy="90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16640" y="3068640"/>
            <a:ext cx="135000" cy="90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83240" y="3159000"/>
            <a:ext cx="135000" cy="90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6.66667E-006 -4.91196E-006 C 0.0276 0.00348 0.0552 0.00718 0.08142 0.00904 C 0.10763 0.01089 0.13576 0.0102 0.15729 0.01066 C 0.17881 0.01112 0.19201 0.01367 0.21076 0.01251 C 0.22951 0.01135 0.25069 -0.00765 0.26944 0.00371 C 0.28819 0.01506 0.31024 0.06094 0.32274 0.08017 C 0.33524 0.0994 0.3342 0.11261 0.34409 0.11932 C 0.35399 0.12604 0.37222 0.12535 0.38263 0.12118 C 0.39305 0.11701 0.39861 0.10589 0.40677 0.0943 C 0.41493 0.08272 0.42326 0.06511 0.43211 0.05167 C 0.44097 0.03823 0.44947 0.02387 0.46006 0.01437 C 0.47065 0.00487 0.48298 -0.00208 0.496 -0.00533 C 0.50902 -0.00857 0.5243 -0.00556 0.53871 -0.00533 C 0.55312 -0.0051 0.56753 -0.00417 0.58263 -0.00347 C 0.59774 -0.00278 0.61718 -0.00208 0.62934 -0.00162 C 0.64149 -0.00116 0.6467 -0.00046 0.65607 -4.91196E-006 C 0.66545 0.00046 0.67517 0.00116 0.68541 0.00185 C 0.69565 0.00255 0.70642 0.00301 0.71736 0.00371 E">
                                      <p:cBhvr>
                                        <p:cTn id="148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evt="end">
                                        <p:tn val="147"/>
                                      </p:cond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11492E-006 C 0.00712 -0.00232 0.01423 -0.00464 0.01875 -0.00904 C 0.02326 -0.01344 0.02274 -0.02341 0.02673 -0.02665 C 0.03073 -0.02989 0.03628 -0.02827 0.04271 -0.0285 C 0.04913 -0.02873 0.05573 -0.02897 0.06528 -0.0285 C 0.07482 -0.02804 0.09028 -0.02804 0.1 -0.02503 C 0.10972 -0.02202 0.11962 -0.01553 0.12396 -0.01066 C 0.1283 -0.0058 0.12535 0.00139 0.12569 0.00463 E">
                                      <p:cBhvr>
                                        <p:cTn id="157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76089E-007 C 0.00469 0.00695 0.00955 0.0139 0.01198 0.02132 C 0.01441 0.02873 0.01476 0.03592 0.01476 0.04449 C 0.01476 0.05306 0.01216 0.06326 0.01198 0.07299 C 0.01181 0.08272 0.01111 0.09407 0.01337 0.10334 C 0.01563 0.11261 0.02136 0.11979 0.02535 0.12813 C 0.02934 0.13647 0.03143 0.14319 0.03733 0.15315 C 0.04323 0.16312 0.05156 0.17679 0.06129 0.1886 C 0.07101 0.20042 0.08472 0.21733 0.09601 0.22428 C 0.10729 0.23124 0.12136 0.23263 0.12934 0.22961 C 0.13733 0.2266 0.14063 0.21641 0.1441 0.20644 E">
                                      <p:cBhvr>
                                        <p:cTn id="159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cesso de Simula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Confecção do </a:t>
            </a:r>
            <a:r>
              <a:rPr b="0" i="1" lang="pt-BR" sz="2600" spc="-1" strike="noStrike">
                <a:solidFill>
                  <a:srgbClr val="000000"/>
                </a:solidFill>
                <a:latin typeface="Verdana"/>
              </a:rPr>
              <a:t>script</a:t>
            </a: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 OTcl (arquivo text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xecução do </a:t>
            </a:r>
            <a:r>
              <a:rPr b="0" i="1" lang="pt-BR" sz="2600" spc="-1" strike="noStrike">
                <a:solidFill>
                  <a:srgbClr val="000000"/>
                </a:solidFill>
                <a:latin typeface="Verdana"/>
              </a:rPr>
              <a:t>scrip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rquivos de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tracing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gerad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pós conclusão da simulaçã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mprimir estatísticas calculadas no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scrip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sualizar eventos no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na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nalisar resultados através dos arquivos de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tracing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com ferramentas apropriadas (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awk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mulação de um Mode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Composição do modelo propos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2 geradores de tráfeg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CBR (Constant Bit Rate)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Exponencial on-off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1 sorvedour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2 tipos de fil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Droptai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SFQ (Stochastic Fair Queueing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objeto Simulad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Abertura de arquivos para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trac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a topologia de re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de nós ou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exão dos nós entre si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link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das filas de saí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os agentes de 4. camada (transport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os geradores de tráfego (aplicaçã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rogramação dos escalonadores e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tim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Fechamento da Simulação, animação e geração de estatístic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objeto Simulad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Abertura de arquivos para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trac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a topologia de re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de nós ou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exão dos nós entre si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link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das filas de saí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os agentes de 4. camada (transport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os geradores de tráfego (aplicaçã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rogramação dos escalonadores e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tim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Fechamento da Simulação, animação e geração de estatístic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76240"/>
            <a:ext cx="80010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74880" indent="-748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objeto Simulad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-748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Abertura de arquivos para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trac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1554120" y="2422440"/>
            <a:ext cx="315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t ns [new Simulator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t MAX_TIME 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46000" y="4398840"/>
            <a:ext cx="230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t nf [open out.nam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t tr [open out.tr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trace-all $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namtrace-all $n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a topologia de re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e nós ou no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onexão dos nós entre si (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links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as filas de saí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2170800" y="3870360"/>
            <a:ext cx="4249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0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1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2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3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duplex-link $n0 $n2 10Mb 10ms Drop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duplex-link $n1 $n2 10Mb 10ms Drop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duplex-link $n2 $n3 10Mb 10ms SF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otei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racterísticas gerais do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rutu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f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tilizaçã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emplo de uma pequena simulaçã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a topologia de re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e nós ou no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onexão dos nós entre si (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links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as filas de saí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2170800" y="3859200"/>
            <a:ext cx="4249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0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1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2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3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duplex-link $n0 $n2 10Mb 10ms Drop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duplex-link $n1 $n2 10Mb 10ms Drop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duplex-link $n2 $n3 10Mb 10ms SF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646280" y="1854360"/>
            <a:ext cx="539640" cy="495000"/>
            <a:chOff x="1646280" y="1854360"/>
            <a:chExt cx="539640" cy="495000"/>
          </a:xfrm>
        </p:grpSpPr>
        <p:sp>
          <p:nvSpPr>
            <p:cNvPr id="155" name=""/>
            <p:cNvSpPr/>
            <p:nvPr/>
          </p:nvSpPr>
          <p:spPr>
            <a:xfrm>
              <a:off x="1646280" y="1854360"/>
              <a:ext cx="539640" cy="49500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73280" y="1900080"/>
              <a:ext cx="49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232000" y="1854360"/>
            <a:ext cx="539640" cy="495000"/>
            <a:chOff x="2232000" y="1854360"/>
            <a:chExt cx="539640" cy="495000"/>
          </a:xfrm>
        </p:grpSpPr>
        <p:sp>
          <p:nvSpPr>
            <p:cNvPr id="158" name=""/>
            <p:cNvSpPr/>
            <p:nvPr/>
          </p:nvSpPr>
          <p:spPr>
            <a:xfrm>
              <a:off x="2232000" y="1854360"/>
              <a:ext cx="539640" cy="49500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78080" y="1893600"/>
              <a:ext cx="49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817720" y="1854360"/>
            <a:ext cx="539640" cy="495000"/>
            <a:chOff x="2817720" y="1854360"/>
            <a:chExt cx="539640" cy="495000"/>
          </a:xfrm>
        </p:grpSpPr>
        <p:sp>
          <p:nvSpPr>
            <p:cNvPr id="161" name=""/>
            <p:cNvSpPr/>
            <p:nvPr/>
          </p:nvSpPr>
          <p:spPr>
            <a:xfrm>
              <a:off x="2817720" y="1854360"/>
              <a:ext cx="539640" cy="49500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50840" y="1904760"/>
              <a:ext cx="4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n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402000" y="1854360"/>
            <a:ext cx="539640" cy="495000"/>
            <a:chOff x="3402000" y="1854360"/>
            <a:chExt cx="539640" cy="495000"/>
          </a:xfrm>
        </p:grpSpPr>
        <p:sp>
          <p:nvSpPr>
            <p:cNvPr id="164" name=""/>
            <p:cNvSpPr/>
            <p:nvPr/>
          </p:nvSpPr>
          <p:spPr>
            <a:xfrm>
              <a:off x="3402000" y="1854360"/>
              <a:ext cx="539640" cy="49500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35120" y="1898640"/>
              <a:ext cx="4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n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V="1">
            <a:off x="2232000" y="2979720"/>
            <a:ext cx="1844640" cy="628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98520" y="2136600"/>
            <a:ext cx="1890720" cy="662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97560" y="2921040"/>
            <a:ext cx="135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46280" y="1989000"/>
            <a:ext cx="1170000" cy="30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Drop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46280" y="3384720"/>
            <a:ext cx="1170000" cy="30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Drop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43440" y="2709720"/>
            <a:ext cx="719280" cy="30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F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14921E-006 L -5.55556E-007 0.05028 E">
                                      <p:cBhvr>
                                        <p:cTn id="308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500"/>
                            </p:stCondLst>
                            <p:childTnLst>
                              <p:par>
                                <p:cTn id="3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11111E-006 3.6608E-006 L -0.05903 0.23331 E">
                                      <p:cBhvr>
                                        <p:cTn id="340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61111E-006 3.6608E-006 L 0.13768 0.12164 E">
                                      <p:cBhvr>
                                        <p:cTn id="343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5E-006 3.6608E-006 L 0.28056 0.12164 E">
                                      <p:cBhvr>
                                        <p:cTn id="346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19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riação dos agentes de 4. camada (transport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riação dos geradores de tráfego (aplicaçã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658880" y="2652840"/>
            <a:ext cx="529236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proc attach-expoo-traffic {node sink size burst idle rate class color}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set ns [Simulator instanc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set source [new Agent/UDP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ns attach-agent $node $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source set class_ $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ns color $class $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set traffic [new Application/Traffic/Exponential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traffic set packetSize_ $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traffic set burst_time_ $bu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traffic set idle_rate_ $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traffic set rate_ $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traffic attach-agent $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ns connect $source $s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return $traf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set traffgen0 [attach-expoo-traffic $n0 $sink0 1000 800ms 2ms 5M 1 G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249960" y="5216400"/>
            <a:ext cx="1195200" cy="495000"/>
            <a:chOff x="6249960" y="5216400"/>
            <a:chExt cx="1195200" cy="495000"/>
          </a:xfrm>
        </p:grpSpPr>
        <p:grpSp>
          <p:nvGrpSpPr>
            <p:cNvPr id="176" name=""/>
            <p:cNvGrpSpPr/>
            <p:nvPr/>
          </p:nvGrpSpPr>
          <p:grpSpPr>
            <a:xfrm>
              <a:off x="6249960" y="5216400"/>
              <a:ext cx="539640" cy="495000"/>
              <a:chOff x="6249960" y="5216400"/>
              <a:chExt cx="539640" cy="495000"/>
            </a:xfrm>
          </p:grpSpPr>
          <p:sp>
            <p:nvSpPr>
              <p:cNvPr id="177" name=""/>
              <p:cNvSpPr/>
              <p:nvPr/>
            </p:nvSpPr>
            <p:spPr>
              <a:xfrm>
                <a:off x="6249960" y="5216400"/>
                <a:ext cx="539640" cy="495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76960" y="5262120"/>
                <a:ext cx="49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n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6777000" y="5473440"/>
              <a:ext cx="668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305840" y="3984480"/>
            <a:ext cx="145224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. on-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29600" y="4614840"/>
            <a:ext cx="72072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95920" y="396072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97360" y="4584600"/>
            <a:ext cx="164016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2" idx="2"/>
            <a:endCxn id="183" idx="0"/>
          </p:cNvCxnSpPr>
          <p:nvPr/>
        </p:nvCxnSpPr>
        <p:spPr>
          <a:xfrm>
            <a:off x="6516720" y="4367160"/>
            <a:ext cx="2160" cy="21816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185" name=""/>
          <p:cNvCxnSpPr>
            <a:stCxn id="183" idx="2"/>
            <a:endCxn id="177" idx="0"/>
          </p:cNvCxnSpPr>
          <p:nvPr/>
        </p:nvCxnSpPr>
        <p:spPr>
          <a:xfrm>
            <a:off x="6517800" y="4991040"/>
            <a:ext cx="2520" cy="22608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19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riação dos agentes de 4. camada (transport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riação dos geradores de tráfego (aplicaçã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429920" y="3159000"/>
            <a:ext cx="35611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udp1 [new Agent/UDP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udp1 set class_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attach-agent $n1 $ud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cbr0 [new Application/Traffic/CBR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cbr0 set packetSize_ 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cbr0 set interval_ 0.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cbr0 attach-agent $ud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connect $udp1 $sink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249960" y="5216400"/>
            <a:ext cx="1195200" cy="495000"/>
            <a:chOff x="6249960" y="5216400"/>
            <a:chExt cx="1195200" cy="495000"/>
          </a:xfrm>
        </p:grpSpPr>
        <p:grpSp>
          <p:nvGrpSpPr>
            <p:cNvPr id="190" name=""/>
            <p:cNvGrpSpPr/>
            <p:nvPr/>
          </p:nvGrpSpPr>
          <p:grpSpPr>
            <a:xfrm>
              <a:off x="6249960" y="5216400"/>
              <a:ext cx="539640" cy="495000"/>
              <a:chOff x="6249960" y="5216400"/>
              <a:chExt cx="539640" cy="495000"/>
            </a:xfrm>
          </p:grpSpPr>
          <p:sp>
            <p:nvSpPr>
              <p:cNvPr id="191" name=""/>
              <p:cNvSpPr/>
              <p:nvPr/>
            </p:nvSpPr>
            <p:spPr>
              <a:xfrm>
                <a:off x="6249960" y="5216400"/>
                <a:ext cx="539640" cy="495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276960" y="5262120"/>
                <a:ext cx="49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Verdana"/>
                  </a:rPr>
                  <a:t>n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6777000" y="5473440"/>
              <a:ext cx="668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305840" y="3984480"/>
            <a:ext cx="74448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29600" y="4614840"/>
            <a:ext cx="72072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95920" y="396072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97360" y="4584600"/>
            <a:ext cx="164016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6" idx="2"/>
            <a:endCxn id="197" idx="0"/>
          </p:cNvCxnSpPr>
          <p:nvPr/>
        </p:nvCxnSpPr>
        <p:spPr>
          <a:xfrm>
            <a:off x="6516720" y="4367160"/>
            <a:ext cx="2160" cy="21816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199" name=""/>
          <p:cNvCxnSpPr>
            <a:stCxn id="197" idx="2"/>
            <a:endCxn id="191" idx="0"/>
          </p:cNvCxnSpPr>
          <p:nvPr/>
        </p:nvCxnSpPr>
        <p:spPr>
          <a:xfrm>
            <a:off x="6517800" y="4991040"/>
            <a:ext cx="2520" cy="22608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5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rogramação dos escalonadores e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tim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1509120" y="3159000"/>
            <a:ext cx="4156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at 0.0 "$traffgen0 start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at 1.0 "$cbr0 start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at [expr $MAX_TIME-1] "$traffgen0 stop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at [expr $MAX_TIME-1] "$cbr0 stop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at $MAX_TIME "finish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chamento da Simulação, animação e geração de estatístic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1190880" y="2708280"/>
            <a:ext cx="68270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c finish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global ns nf tr MAX_TIME sin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$ns flush-t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lose $n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lose $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et now [$ns now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uts "Estatisticas: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uts "Tempo Simulacao:  $now 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uts "Pacotes recebidos no nodo 3:  [$sink0 set npkts_]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uts "Bytes recebidos no nodo 3:  [$sink0 set bytes_]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uts "Utilizacao do link:  [expr [$sink0 set bytes_]*8./(10000000.*$now)*100.]%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xec nam out.nam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xit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$ns r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264360" y="5032440"/>
            <a:ext cx="74448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57880" y="4398840"/>
            <a:ext cx="74448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 Simul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165320" y="3011400"/>
            <a:ext cx="539640" cy="495360"/>
            <a:chOff x="1165320" y="3011400"/>
            <a:chExt cx="539640" cy="495360"/>
          </a:xfrm>
        </p:grpSpPr>
        <p:sp>
          <p:nvSpPr>
            <p:cNvPr id="210" name=""/>
            <p:cNvSpPr/>
            <p:nvPr/>
          </p:nvSpPr>
          <p:spPr>
            <a:xfrm>
              <a:off x="1165320" y="3011400"/>
              <a:ext cx="539640" cy="4953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2320" y="3057480"/>
              <a:ext cx="49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165320" y="4330800"/>
            <a:ext cx="539640" cy="495360"/>
            <a:chOff x="1165320" y="4330800"/>
            <a:chExt cx="539640" cy="495360"/>
          </a:xfrm>
        </p:grpSpPr>
        <p:sp>
          <p:nvSpPr>
            <p:cNvPr id="213" name=""/>
            <p:cNvSpPr/>
            <p:nvPr/>
          </p:nvSpPr>
          <p:spPr>
            <a:xfrm>
              <a:off x="1165320" y="4330800"/>
              <a:ext cx="539640" cy="4953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11400" y="4370400"/>
              <a:ext cx="49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257720" y="3654360"/>
            <a:ext cx="539640" cy="495360"/>
            <a:chOff x="4257720" y="3654360"/>
            <a:chExt cx="539640" cy="495360"/>
          </a:xfrm>
        </p:grpSpPr>
        <p:sp>
          <p:nvSpPr>
            <p:cNvPr id="216" name=""/>
            <p:cNvSpPr/>
            <p:nvPr/>
          </p:nvSpPr>
          <p:spPr>
            <a:xfrm>
              <a:off x="4257720" y="3654360"/>
              <a:ext cx="539640" cy="4953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90840" y="3705120"/>
              <a:ext cx="4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n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540560" y="3654360"/>
            <a:ext cx="539640" cy="495360"/>
            <a:chOff x="7540560" y="3654360"/>
            <a:chExt cx="539640" cy="495360"/>
          </a:xfrm>
        </p:grpSpPr>
        <p:sp>
          <p:nvSpPr>
            <p:cNvPr id="219" name=""/>
            <p:cNvSpPr/>
            <p:nvPr/>
          </p:nvSpPr>
          <p:spPr>
            <a:xfrm>
              <a:off x="7540560" y="3654360"/>
              <a:ext cx="539640" cy="4953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73680" y="3699000"/>
              <a:ext cx="4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n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220840" y="1787400"/>
            <a:ext cx="145260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. on-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44600" y="2417760"/>
            <a:ext cx="72072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1280" y="176364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2720" y="238752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23" idx="2"/>
            <a:endCxn id="224" idx="0"/>
          </p:cNvCxnSpPr>
          <p:nvPr/>
        </p:nvCxnSpPr>
        <p:spPr>
          <a:xfrm>
            <a:off x="1432080" y="2170080"/>
            <a:ext cx="2160" cy="21816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226" name=""/>
          <p:cNvCxnSpPr>
            <a:stCxn id="224" idx="2"/>
          </p:cNvCxnSpPr>
          <p:nvPr/>
        </p:nvCxnSpPr>
        <p:spPr>
          <a:xfrm>
            <a:off x="1433520" y="2793960"/>
            <a:ext cx="2160" cy="22608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sp>
        <p:nvSpPr>
          <p:cNvPr id="227" name=""/>
          <p:cNvSpPr/>
          <p:nvPr/>
        </p:nvSpPr>
        <p:spPr>
          <a:xfrm>
            <a:off x="2220840" y="5078520"/>
            <a:ext cx="74448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44600" y="5708520"/>
            <a:ext cx="72072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505476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2720" y="567864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"/>
          <p:cNvCxnSpPr>
            <a:stCxn id="229" idx="2"/>
            <a:endCxn id="230" idx="0"/>
          </p:cNvCxnSpPr>
          <p:nvPr/>
        </p:nvCxnSpPr>
        <p:spPr>
          <a:xfrm>
            <a:off x="1432080" y="5460480"/>
            <a:ext cx="2160" cy="21852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232" name=""/>
          <p:cNvCxnSpPr/>
          <p:nvPr/>
        </p:nvCxnSpPr>
        <p:spPr>
          <a:xfrm>
            <a:off x="1433520" y="4826160"/>
            <a:ext cx="2160" cy="22608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233" name=""/>
          <p:cNvCxnSpPr>
            <a:stCxn id="210" idx="6"/>
            <a:endCxn id="216" idx="2"/>
          </p:cNvCxnSpPr>
          <p:nvPr/>
        </p:nvCxnSpPr>
        <p:spPr>
          <a:xfrm>
            <a:off x="1704600" y="3259080"/>
            <a:ext cx="2553120" cy="64332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234" name=""/>
          <p:cNvCxnSpPr>
            <a:stCxn id="213" idx="6"/>
            <a:endCxn id="216" idx="2"/>
          </p:cNvCxnSpPr>
          <p:nvPr/>
        </p:nvCxnSpPr>
        <p:spPr>
          <a:xfrm flipV="1">
            <a:off x="1704600" y="3901320"/>
            <a:ext cx="2553120" cy="67716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16" idx="6"/>
            <a:endCxn id="219" idx="2"/>
          </p:cNvCxnSpPr>
          <p:nvPr/>
        </p:nvCxnSpPr>
        <p:spPr>
          <a:xfrm>
            <a:off x="4797360" y="3901680"/>
            <a:ext cx="27439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1886040" y="2979720"/>
            <a:ext cx="1170000" cy="30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Drop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86280" y="3538440"/>
            <a:ext cx="719280" cy="30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F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86040" y="4535640"/>
            <a:ext cx="1170000" cy="30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Drop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80400" y="239220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81840" y="301608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"/>
          <p:cNvCxnSpPr>
            <a:stCxn id="239" idx="2"/>
            <a:endCxn id="240" idx="0"/>
          </p:cNvCxnSpPr>
          <p:nvPr/>
        </p:nvCxnSpPr>
        <p:spPr>
          <a:xfrm>
            <a:off x="7800480" y="2798640"/>
            <a:ext cx="2520" cy="21816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242" name=""/>
          <p:cNvCxnSpPr>
            <a:stCxn id="240" idx="2"/>
          </p:cNvCxnSpPr>
          <p:nvPr/>
        </p:nvCxnSpPr>
        <p:spPr>
          <a:xfrm>
            <a:off x="7802640" y="3422160"/>
            <a:ext cx="2160" cy="22644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sp>
        <p:nvSpPr>
          <p:cNvPr id="243" name=""/>
          <p:cNvSpPr/>
          <p:nvPr/>
        </p:nvSpPr>
        <p:spPr>
          <a:xfrm>
            <a:off x="6235560" y="2405160"/>
            <a:ext cx="74484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38800" y="3036960"/>
            <a:ext cx="74448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94440" y="500220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437364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"/>
          <p:cNvCxnSpPr>
            <a:stCxn id="219" idx="4"/>
            <a:endCxn id="246" idx="0"/>
          </p:cNvCxnSpPr>
          <p:nvPr/>
        </p:nvCxnSpPr>
        <p:spPr>
          <a:xfrm>
            <a:off x="7810200" y="4149720"/>
            <a:ext cx="3960" cy="22464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248" name=""/>
          <p:cNvCxnSpPr>
            <a:stCxn id="246" idx="2"/>
            <a:endCxn id="245" idx="0"/>
          </p:cNvCxnSpPr>
          <p:nvPr/>
        </p:nvCxnSpPr>
        <p:spPr>
          <a:xfrm>
            <a:off x="7813800" y="4779720"/>
            <a:ext cx="2160" cy="22284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249" name=""/>
          <p:cNvCxnSpPr>
            <a:stCxn id="227" idx="3"/>
            <a:endCxn id="207" idx="1"/>
          </p:cNvCxnSpPr>
          <p:nvPr/>
        </p:nvCxnSpPr>
        <p:spPr>
          <a:xfrm flipV="1">
            <a:off x="2965320" y="4581000"/>
            <a:ext cx="3293280" cy="680400"/>
          </a:xfrm>
          <a:prstGeom prst="straightConnector1">
            <a:avLst/>
          </a:prstGeom>
          <a:ln w="31680">
            <a:solidFill>
              <a:srgbClr val="800000"/>
            </a:solidFill>
            <a:prstDash val="sysDot"/>
            <a:miter/>
          </a:ln>
        </p:spPr>
      </p:cxnSp>
      <p:cxnSp>
        <p:nvCxnSpPr>
          <p:cNvPr id="250" name=""/>
          <p:cNvCxnSpPr>
            <a:stCxn id="228" idx="3"/>
            <a:endCxn id="206" idx="1"/>
          </p:cNvCxnSpPr>
          <p:nvPr/>
        </p:nvCxnSpPr>
        <p:spPr>
          <a:xfrm flipV="1">
            <a:off x="2965320" y="5214600"/>
            <a:ext cx="3299760" cy="676800"/>
          </a:xfrm>
          <a:prstGeom prst="straightConnector1">
            <a:avLst/>
          </a:prstGeom>
          <a:ln w="31680">
            <a:solidFill>
              <a:srgbClr val="800000"/>
            </a:solidFill>
            <a:prstDash val="sysDot"/>
            <a:miter/>
          </a:ln>
        </p:spPr>
      </p:cxnSp>
      <p:cxnSp>
        <p:nvCxnSpPr>
          <p:cNvPr id="251" name=""/>
          <p:cNvCxnSpPr>
            <a:stCxn id="222" idx="3"/>
            <a:endCxn id="244" idx="1"/>
          </p:cNvCxnSpPr>
          <p:nvPr/>
        </p:nvCxnSpPr>
        <p:spPr>
          <a:xfrm>
            <a:off x="2964960" y="2600280"/>
            <a:ext cx="3274200" cy="619920"/>
          </a:xfrm>
          <a:prstGeom prst="straightConnector1">
            <a:avLst/>
          </a:prstGeom>
          <a:ln w="31680">
            <a:solidFill>
              <a:srgbClr val="800000"/>
            </a:solidFill>
            <a:prstDash val="sysDot"/>
            <a:miter/>
          </a:ln>
        </p:spPr>
      </p:cxnSp>
      <p:cxnSp>
        <p:nvCxnSpPr>
          <p:cNvPr id="252" name=""/>
          <p:cNvCxnSpPr>
            <a:stCxn id="221" idx="3"/>
            <a:endCxn id="243" idx="1"/>
          </p:cNvCxnSpPr>
          <p:nvPr/>
        </p:nvCxnSpPr>
        <p:spPr>
          <a:xfrm>
            <a:off x="3673080" y="1969920"/>
            <a:ext cx="2562840" cy="618480"/>
          </a:xfrm>
          <a:prstGeom prst="straightConnector1">
            <a:avLst/>
          </a:prstGeom>
          <a:ln w="31680">
            <a:solidFill>
              <a:srgbClr val="800000"/>
            </a:solidFill>
            <a:prstDash val="sysDot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35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850"/>
                            </p:stCondLst>
                            <p:childTnLst>
                              <p:par>
                                <p:cTn id="5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 Simul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6431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statísticas coletadas durante a simulação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2216160" y="3094200"/>
            <a:ext cx="443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empo Simulação: 50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acotes recebidos no nodo 3: 3843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ytes recebidos no nodo 3: 334576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Utilização do link: 53.53223999999999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65920" y="4759200"/>
            <a:ext cx="13507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2700"/>
                            </p:stCondLst>
                            <p:childTnLst>
                              <p:par>
                                <p:cTn id="7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3056040" y="3213000"/>
            <a:ext cx="2506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mulad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59200" y="3213000"/>
            <a:ext cx="390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Clr clrSpc="rgb">
                                      <p:cBhvr>
                                        <p:cTn id="6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genharia:  Solução de Problem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3132000" y="2924280"/>
            <a:ext cx="2592360" cy="64296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82760" y="4149360"/>
            <a:ext cx="2495880" cy="6440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t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8480" y="5300640"/>
            <a:ext cx="2629080" cy="64296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4177440" y="2528280"/>
            <a:ext cx="503280" cy="288720"/>
          </a:xfrm>
          <a:custGeom>
            <a:avLst/>
            <a:gdLst>
              <a:gd name="textAreaLeft" fmla="*/ 78480 w 503280"/>
              <a:gd name="textAreaRight" fmla="*/ 440640 w 503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4140720" y="3717000"/>
            <a:ext cx="576360" cy="288720"/>
          </a:xfrm>
          <a:custGeom>
            <a:avLst/>
            <a:gdLst>
              <a:gd name="textAreaLeft" fmla="*/ 90000 w 576360"/>
              <a:gd name="textAreaRight" fmla="*/ 504360 w 57636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4177440" y="4904640"/>
            <a:ext cx="503280" cy="288720"/>
          </a:xfrm>
          <a:custGeom>
            <a:avLst/>
            <a:gdLst>
              <a:gd name="textAreaLeft" fmla="*/ 78480 w 503280"/>
              <a:gd name="textAreaRight" fmla="*/ 440640 w 503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1080" y="1773360"/>
            <a:ext cx="1189440" cy="1496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4823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f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áqu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ircu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2060280"/>
            <a:ext cx="2592360" cy="6440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955960" y="3278160"/>
            <a:ext cx="279540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autoRev="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-0.01156 L 0.14462 -0.0726 L 0.30764 -0.04347 E">
                                      <p:cBhvr>
                                        <p:cTn id="36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écnicas de Trata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Métodos Analít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Desenvolvimento algébri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rototipação e Te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Métodos numér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imulaçã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écnicas de Trata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66640" y="1752480"/>
          <a:ext cx="8001000" cy="43405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c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ntag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vantag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todo Analí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sto baix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tid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ex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12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totip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ados re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 cu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zo lon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15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mul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il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sto baix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der comput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dade do mode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 flipV="1">
            <a:off x="574560" y="1708560"/>
            <a:ext cx="8001000" cy="42840"/>
          </a:xfrm>
          <a:prstGeom prst="rect">
            <a:avLst/>
          </a:prstGeom>
          <a:solidFill>
            <a:srgbClr val="d3da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27247E-006 L 2.77778E-006 0.63578 E">
                                      <p:cBhvr>
                                        <p:cTn id="89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evt="end">
                                        <p:tn val="88"/>
                                      </p:cond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800" spc="-1" strike="noStrike">
                <a:solidFill>
                  <a:srgbClr val="000000"/>
                </a:solidFill>
                <a:latin typeface="Verdana"/>
              </a:rPr>
              <a:t>ns – network simulator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imulador de eventos discretos, focado para pesquisas em redes de compu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Derivado do REAL Network Simulator (Cornell University, 1989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Desenvolvido pela University of Southern California (USC)/Information Sciences Institute (IS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uportado pelo DARPA e NS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Pesquisadores usuários nos EUA, Índia, Inglaterra, Itália, Taiwan, Espanha, Brasi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683640" y="115416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(www.isi.edu/nsn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mph" presetID="18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ns -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racteríst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uporte a TCP e variantes (Tahoe, Reno, New Reno, Vegas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Multica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Wirel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atél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Protocolos de roteamento (Distance Vector, Dijkstra SPF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Filas tipo droptail, Diffserv RED, FQ, SFQ, CBQ, et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Geradores de tráfego (FTP, CBR, exponencia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ns -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racteríst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Trac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leta de dados da simulação para análi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nam (network animator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Timers e escalon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Modelos para Controle de Er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Ferramentas matemátic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Gerador números randômi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tegrais para cálculos estatísti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Xgrap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Ferramenta para plotage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2T18:55:11Z</dcterms:created>
  <dc:creator>Marcos Portnoi</dc:creator>
  <dc:description/>
  <dc:language>en-US</dc:language>
  <cp:lastModifiedBy>Marcos Portnoi</cp:lastModifiedBy>
  <dcterms:modified xsi:type="dcterms:W3CDTF">2002-10-17T03:19:53Z</dcterms:modified>
  <cp:revision>54</cp:revision>
  <dc:subject/>
  <dc:title>Ferramenta de Simulação de Redes NS – Network Simulator</dc:title>
</cp:coreProperties>
</file>